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3A27-A884-4E66-B98B-8A2F2403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43CB-641F-4649-8478-77913FB8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218-22BF-419D-AE2E-3FD19A6E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846C-1847-45A3-8C7F-2216F2EF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C104-DABA-4A12-ACBF-5A622BC1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AFC3-7735-46BC-BDE8-E08999F0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54F18-CCB6-44F9-88FB-626604DC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E21E-AE70-4C9D-B88B-F597B751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A882-4BBC-475C-90E5-7BD7AEB4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B89A-4C01-433D-8516-E7B1C2BE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3DD0-7973-4109-95AA-62EA60EC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83A-A98C-4569-AF1F-599F1C8E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2D99-89CA-40AA-9C24-9BC145D2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378C-A1E9-4914-B037-CDD5EACC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BF24-58D8-4EA7-BEB3-66B69917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8691-8649-47A5-8F67-7BC0609E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8742-FBA3-412E-B8C5-74C6AC18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CA9-305D-4F80-BF11-0CDA0FF0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906-2296-4A36-99F2-8B6FCF27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4D9-F35B-48B8-86DC-9330E6F0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4ED3-C28A-4C60-8909-69FFB3FF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A81-213C-4C9E-A393-407BAA5D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B911-28CB-4EBF-B23A-F88D574F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F3F-2F61-47C6-964B-6F3CC922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C982-4EB3-49BE-B3BD-E7A81BD566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99B41-CD24-4C02-80B0-7950A95E7A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olocaus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-69840"/>
            <a:ext cx="89154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001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3055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oluntary Steriliz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33-1935 thousands sterilize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0,000 Gypsies, Black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20,000-350,000 mentally ill/handicapped steriliz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enturies of religious prejudic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dern political fear-extreme nationalis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nancial insecuri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ace’ scie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itler named Chancellor of Germany, destroys German democrac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rrested political opponents, liberal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elief Germans ‘racially superior’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ews, Gypsies, handicapped threats to German ‘race’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ews accounted for about 525,000 people in Ger (less than 1% of the population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zis blamed Jews for WWI, economic depress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pril 1933-nation wide boycott of Jewish businesses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77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77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77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77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" dur="77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8" dur="77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erman laws force Jews out of civil service jobs, universities, courts and other public lif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937-193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Jews can’t go to public schools, theaters, resorts, walk in certain parts of cit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azis seize Jewish businesses/propert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ristallnacht Nov 193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 of Broken Glas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ttacks against Ger &amp; Austrian Jew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ynagogues, businesses burned, people arrested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55920" y="0"/>
            <a:ext cx="604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25560"/>
            <a:ext cx="8458200" cy="67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49:01Z</dcterms:created>
  <dc:creator>Stephen Rauch</dc:creator>
  <dc:description/>
  <dc:language>en-US</dc:language>
  <cp:lastModifiedBy>Stephen Rauch</cp:lastModifiedBy>
  <dcterms:modified xsi:type="dcterms:W3CDTF">2008-03-28T19:46:01Z</dcterms:modified>
  <cp:revision>4</cp:revision>
  <dc:subject/>
  <dc:title>Holocaust</dc:title>
</cp:coreProperties>
</file>